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8BE-6C85-4CB2-9E17-14D0F870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396-C7DE-49BB-807D-49E9B087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49F-3DE8-4BDE-BFF2-47A27836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24C-1EBC-4DCA-85DD-F9A0996F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BAC-315A-4712-8A74-4DCA99C8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2D7-11D9-449A-A402-FB007919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E62-CC85-4E0C-BEDA-466854F3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55D-E66C-4380-B42E-FC36623C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837-939F-40DA-9AD9-C11B5580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239-A227-4E70-B627-08D63090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C85-CF85-4CBF-BE8E-9AA564E1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BCA-410E-4E43-9997-94932B0A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2E53-9922-48AF-BF1F-445F19B93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30 year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astating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Killed- “Plague Like” ¼ to 1/3 dead—some areas…hig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s tend to be Germanic and Boh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mid 17C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for future discussion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de followed by the Sun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ugal returns as separat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itan Uprising and a whole lot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ine HRE-&gt; Itchings of Prussia and Brandenburg-&gt; A Power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sterdam- Economic Power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n- Political Power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 - Emerging from Cha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World Col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yers (Every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 England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E (Bohemia)--that’s where it 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sburgs- Catholic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 League of Germa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/Portugal- United under Philip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enestration- Pha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E Seven El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Catholic, Three Protestant (2 of whom were Calvinists) Peace of Aug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duke Ferdinand (Habsburg) as King of Bohemia (Habsburg’s gained Hungary and Bohemia in 16C) limits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liation-&gt;Protestants toss out Catholic leaders from window-&gt;no one di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hemians name their own King (Frederi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national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dinand gets Philip IV (Spain) help—remember their both Habsurgs and both ardent Catholic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lenstein- lapsed Protestant helps Ferdinand defeat Bohemians - White Mountain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s Crush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ot very great Dane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se II 1625-1629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seatic League in decline- focus is more south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 IV takes the mantle for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a territory w/in 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mark’s little help- a troop of English and Catholic France and Dutch provides some $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holic France helping Protestant Danes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lenstein defeats Christian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land lost to HRE and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wede Victory! Phase III 1630-16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tav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Power, expand power and defend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nd/Lithuania falling apart- power vac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helped defray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’s gain-&gt;Gustav II dies (Battle of Lutzen, near Leipzi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reaty-&gt;Protestant gains, Swedish g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 its France’s turn (1635-1648)- Phase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allied w/Dutch and Swe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ch??? New comer on th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des and French gain mor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becomes more political less relig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es switch sides, fight and lose to Sw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eror Dies, Richelieu Dies and s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nal Mazarin (France) begins movement towards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ey where’s England in all this stuff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den Gets Invol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C Power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nd/Lithuania on de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of the Bal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tav I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w expansion into mainland Europe- Prussian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s in the Battle of Lu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des gain substantial swathes of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y of Westphal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What’s the Big De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- w/all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lomacy previously bi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vereig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Toleration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E lost- still in existence but w/limited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ndenburg (who?) g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gains Alsace- root for lots of figh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eden also gains- Baltic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- In significant dec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ch gain independence (took 80 YRS!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C. Church lost 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7:52:34Z</dcterms:created>
  <dc:creator>Steve Balazs</dc:creator>
  <dc:description/>
  <dc:language>en-US</dc:language>
  <cp:lastModifiedBy>Local User</cp:lastModifiedBy>
  <dcterms:modified xsi:type="dcterms:W3CDTF">2011-10-03T11:28:56Z</dcterms:modified>
  <cp:revision>13</cp:revision>
  <dc:subject/>
  <dc:title>The 30 year War</dc:title>
</cp:coreProperties>
</file>